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5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4.wmf" ContentType="image/x-wmf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0.png" ContentType="image/png"/>
  <Override PartName="/ppt/media/image31.png" ContentType="image/png"/>
  <Override PartName="/ppt/media/image6.png" ContentType="image/png"/>
  <Override PartName="/ppt/media/image8.jpeg" ContentType="image/jpeg"/>
  <Override PartName="/ppt/media/image39.jpeg" ContentType="image/jpeg"/>
  <Override PartName="/ppt/media/image45.jpeg" ContentType="image/jpeg"/>
  <Override PartName="/ppt/media/image37.wmf" ContentType="image/x-wmf"/>
  <Override PartName="/ppt/media/image34.png" ContentType="image/png"/>
  <Override PartName="/ppt/media/image40.jpeg" ContentType="image/jpeg"/>
  <Override PartName="/ppt/media/image44.jpeg" ContentType="image/jpeg"/>
  <Override PartName="/ppt/media/image28.png" ContentType="image/png"/>
  <Override PartName="/ppt/media/image38.jpeg" ContentType="image/jpeg"/>
  <Override PartName="/ppt/media/image42.jpeg" ContentType="image/jpeg"/>
  <Override PartName="/ppt/media/image13.png" ContentType="image/png"/>
  <Override PartName="/ppt/media/image36.wmf" ContentType="image/x-wmf"/>
  <Override PartName="/ppt/media/image43.jpeg" ContentType="image/jpeg"/>
  <Override PartName="/ppt/media/image5.png" ContentType="image/png"/>
  <Override PartName="/ppt/media/image35.png" ContentType="image/png"/>
  <Override PartName="/ppt/media/image7.png" ContentType="image/png"/>
  <Override PartName="/ppt/media/image22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169A-CECA-4216-B4C5-D0461444E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58C7-3215-4760-9A2D-C06D10DD4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OBRO DIZAJNIRANA DIJETA PODRAZUMEVA OPTIMALAN UNOS ENERGUIJE; GRADIVNIH I ZAŠTITNIH SUPSTANCI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071C-2560-4ADA-A8A3-A99695CA6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ABDA-9271-4EEB-83BD-62F4556AA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analysis of supplement use, pooling 51 studies involving 10,274 athletes at all levels in 15 sports showed an overall prevalence of supplement use of 46%, with most studies showing a prevalence greater than 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a slajdu prikzana frekvenca korišćenja suplemenata i distribucija po sportovima. Jasan trend korišćenja suplementa prikazan u obe studije, kao i visoka učestalost upojedinačnim sportov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BDF8-991A-4EF6-B6B2-ACDCA9FB0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vi rad potvrđuje visoku učestalost korišćenja vitamina i minerala, pre svega vitamina C, magnezijuma, kalcijuma i multivitam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DB71-FDC1-49D7-8929-1AEBC7F0C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16DF-7773-4C7C-B0E4-673F92446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dovoljna informisanost o listi zabranjenih sredstava pokazana u oba 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96D0-AF9C-44FC-8BBF-4D767DFA1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ucaj 2006, iskljucen sa takmicenja u Tour de F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DC04-4112-46F9-A9FC-358548975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ucaj 2006, iskljucen sa takmicenja u Tour de Franc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 er utice na tvaranje krvnih eliaj, HEMATOPETIN, dovodi do povecanaj  hematokr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A izuzetno sk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B5AE-333A-4907-86C8-D9FC4AAA9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6FFF-D98F-4DD3-A32A-EC409E0C1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7978-23F0-41CC-A418-060D3A37D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torijski najvazniji predstavnik je AMFETAMIN, poznat od 1939, slucajno pronadj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0 Umro je biciklista Knut Jan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7 smrtni slucaj Tom Simpo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D37D-290C-48D5-A1A5-43C04E1D6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vni doping zabranjen 1984, odlukom Mo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ziste vredno 2 miliona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76DF-05FA-408A-944E-274383157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8153-B97B-45EE-8F31-C9D0E482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6D7B-A5AE-4682-A37A-2247771C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635D2-6BFD-4C47-B2B0-784F1CC2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AB567-1FBA-488A-9DA9-74614DB7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265CE-F9DF-4D94-BE7F-13B63AA8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31AE9-17B2-4602-BA46-841E456C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F37DB-9A4A-4CE3-952E-C179C635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CBBE5-F6D2-45B8-99B4-AFE87DA0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2E228-093D-4312-B6E1-194B1532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F0535-E308-4E82-962C-B81475A2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0B40A-B436-40C4-8B5E-89F4867C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35948-544F-4448-8593-924ABF8F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240-D141-4769-A66B-A9590A99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C21B8-F41E-41A7-BF1E-A2D0F279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DD24B-AC2F-48AA-B211-6E838BB9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95997-DA24-4BA6-B642-42019BF3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E0B1E-DBE0-4451-8871-172D8A33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64794-05F7-4DE8-914E-CA858329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D96F2-42E8-42CD-B2A8-159C2656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876E5-0288-45A8-8A36-75187F69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25098-A264-4415-A873-BF9C33CF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D7642-EE9E-4AD9-A0E4-6F513FA3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B0EE7-E049-4B64-9894-92C6D788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DA3-CD36-4B3B-AA49-0065E603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69DC7-B726-4B47-93D2-1B1A9270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6DEDE-777C-4AC9-93EF-CBA21B10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A1771-EACE-4B89-9CB5-F1091AF0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31669-DD47-45AA-899D-08304862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84D51-5ED7-4C86-963D-F1743925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E93C9-F609-48FB-83B1-45C7E747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56D1A-5917-4E42-86BE-D2A6FBC9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C613D-A2A3-45C0-8DD1-7DCA27CE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B7C06-397B-41B8-965A-DAD7B746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CB8AD-742C-4362-AC72-470FA783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0CCE-A170-4028-A80F-00B95A44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65C18-8CCC-45D1-BCBB-E99DC0EA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C60C8-773F-4080-937E-E91E3A7E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53374-FF46-4538-BD83-B7C2DC80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BEFC-CDF9-47F0-A344-86B45F02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1318-F679-4B64-BC60-AC2448F4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C826-F3C2-49C7-8D19-3A53EA30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A7C2-620C-45D8-B6C9-0987DC41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6D49-528B-4195-B2BD-277B981C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8F50-643D-4EDF-9F1B-B49D6179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6FD-C109-441F-973A-8172AA5B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FC64-9A95-4E18-A566-1AE99B8E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37E1-A695-4E88-940F-2F30CCE4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B2AE-463E-4A36-B405-CAB3C02A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0700-F7C9-481D-8999-16710821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A2CE-A4DF-4E4C-B90F-690CE740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A0F21-117A-4E89-9932-4C4AE783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FB557-8061-4271-AD89-DD2E8AA4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7BCA-0334-41C0-8C19-47A076DA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214D6-CAEB-48EC-8DAF-F0AD4342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8833F-F67D-41BF-A8BC-3DAF5810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6F1-5FE1-4F43-A9C8-31604947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AB3EC-7F98-4129-93A3-FA7D058F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07F33-7F9B-4AE7-B36B-9D4E9281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67416-F7A6-4FC1-A0A7-2D002CC6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B0814-A205-41A7-AD02-B8DECDC9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69186-026C-4FA8-BC71-6A9AA6D2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CD629-F2C4-4FEB-B35C-468AE44E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08834-34C7-44D9-BD65-A351A3FD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118C4-B855-475D-87DC-CB4293DB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04383-F447-4C5D-BFE2-5CC8D5A0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E4031-A8A8-4B5A-9D39-6E247214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8BF-17EF-4B3C-8EB3-A9291023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00EEC-D220-4D6F-A6F0-3D11717D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BC545-2E21-4188-9AE2-B030F645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9ABE5-C933-4EC5-B010-0A06E70D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88E2C-E63B-47FD-905D-D6410A46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48244-8C94-442A-BCC9-59A457BF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13E5A-C524-4851-A458-B7BB2A5B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7E4D6-345F-467B-95DC-AFD145C0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F79C5-8EEA-466A-BFB7-7ECA1371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A8FF4-56DC-4769-9381-ACBBEB18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E6558-06A8-4470-A0B6-22CB2BAA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89F-5795-47BA-8567-F32C6815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70B98-214B-4D00-A42D-5A45DA47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1E4F5-2F1D-4F89-A6F5-B56B7FCB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660E5-B543-4A12-AF76-E49D7F0E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05DEF-8A47-4455-841A-77C76720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A177A-A565-45E5-91DD-635CC92B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1CEE7-FE35-42DF-B6AC-B92E7795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325F6-10EB-48DD-88EC-4D906B31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7E048-BED3-488A-8244-AE8FE66D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944F1-A247-4DCC-A4F2-AC02358D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3A6D0-BF93-4210-95EE-B4335AEF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1BE-2C02-495B-A736-586C0B0F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424F5-4139-42CF-B21F-EDA6C90F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6FB32-14A1-43F1-97B7-0799B0F8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C7C07-AF86-43C5-9CC2-68301A91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0BE42-4BB2-4F42-A64B-CDD06B12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D3275-9623-4509-8820-95A8E894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112A5-01C2-4B6E-BEE6-D3AD7218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D9F5F-6788-4AF6-AB73-6C96723A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6618E-3411-4D4D-915C-FD811DE3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56179-0CB5-49D6-A21C-DD7CD98A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B6366-7DC8-495F-8895-B22033D8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61C-1349-4AB4-8228-7C1AE838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8F175-A682-4E70-AE55-6B6EF969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6A380-DC10-459D-8E7E-E6D45E43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1B478-EE31-40AC-AD29-DFB8E03D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F7FF8-A4F2-4AA6-8272-39BE368C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3538F-3A24-4509-B952-DC1FB396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E2404-BDC1-41F3-88DD-F977DEBA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1C9BD-89D4-49C5-B4C1-76022E22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7B4E0-AD44-451C-A0A8-5750DC16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8DEB6-58A4-4048-B569-CCD5F163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D3773-0ED1-44C9-9368-7DFBEFFD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F9FB-8246-4A5A-A493-42FCA847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8FDFD-D518-43C2-81A2-3AE5B693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7B404-C473-4DD2-9C85-69526EE0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230AF-B1CA-499B-96C9-4EC41D35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4A88A-279B-4D91-8DCF-180A2F25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042A2-DD3D-404F-B35D-7FCB0677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E4310-CA8F-45C9-9D80-722AD153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ADDA4-12E6-410C-A115-C98C0A1B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A4EF3-C855-44A1-B15B-EDB35787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7399B-E03E-4E29-9768-CAFBE3E2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5D2FA-C099-4379-BCEE-D4164EC5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0FE-1C39-413D-AB37-875E29AF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22C2E-BEC6-4688-94DB-5E1E3DA9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43D65-FD17-4B57-87A7-DC397B2A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96947-E1C5-4BD5-B430-9C2529F1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4F082-CA8E-4401-B696-6C2B2421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993A8-F24B-4359-8942-666A9D4C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940A5-CD14-4079-B3A0-55185AF9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34B06-F684-4208-AA05-4469F5EE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EACCE-13AB-4A37-AD5A-1967C6AA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5C2C1-7813-4636-8246-D5587792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E34EB-B604-4FE1-B5B3-42E7A6F0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1895-E6A9-4F2A-8451-B9AA900F5B6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5EB2-3253-48F4-8261-311C0361AE86}" type="slidenum">
              <a:rPr b="0" lang="en-US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36A9-3BE6-4A4C-A7D8-E90C0DA7C277}" type="slidenum">
              <a:rPr b="0" lang="en-US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2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D875-CE08-4FF6-BEBE-0D0F719FB1AE}" type="slidenum">
              <a:rPr b="0" lang="en-US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F39B-12FF-4FF9-B13A-00C3F3B5C12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33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2AAD-37B1-412F-A490-20678ED291FE}" type="slidenum">
              <a:rPr b="0" lang="en-US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7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8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7629-FB7D-40E2-885E-E4A247B9BB60}" type="slidenum">
              <a:rPr b="0" lang="en-US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227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9A9C-4CE7-47F8-A974-DB46912963E3}" type="slidenum">
              <a:rPr b="0" lang="en-US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7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F084-02D4-4F69-8D59-104D7945A85B}" type="slidenum">
              <a:rPr b="0" lang="en-US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4813-FC11-4172-B13A-6A3E8EC77F5A}" type="slidenum">
              <a:rPr b="0" lang="en-US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56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16CB-BAFA-43D9-BD7F-2F07B8CBD493}" type="slidenum">
              <a:rPr b="0" lang="en-US" sz="1200" spc="-1" strike="noStrike">
                <a:solidFill>
                  <a:srgbClr val="d38e27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jpeg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284360" y="5589720"/>
            <a:ext cx="4529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оц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. др Драган Васиље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228060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2268360" y="1773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ДУЛ 2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И СПОРТСКЕ ФАРМАЦИЈЕ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324000" y="2924280"/>
            <a:ext cx="8281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 наставна јединица (осма недеља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ДИЈЕТЕТСКИ СУПЛЕМЕНТИ 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СПОРТУ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крај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чео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манентног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ст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овањ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ег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д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ћењ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х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ат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ак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говин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им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м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гл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,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ијард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р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чк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,1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уск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х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ошил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,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ијард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р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вом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овањ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ошњ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гом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ел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агресивниј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н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пањ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ђач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х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д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апређењ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г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ављањ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ог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ициј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њ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х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м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им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им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м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т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а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чар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јазне</a:t>
            </a:r>
            <a:r>
              <a:rPr b="0" lang="h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так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етих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м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ресу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у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е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ништва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бије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но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9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оград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ост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их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т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јенат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ом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рињавајућ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врђуј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тивних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ништво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биј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биј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ћ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о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но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о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х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ат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медикациј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отерапиј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им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х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ационалних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њ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г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 суплемен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 суплементи обухватају широк спектар произв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бзира на облик у коме се налазе, који може бити необичан за намирнице,они припадају категорији намирни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ју се у апотекама, продавницама здраве хране, али и путем Интернета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жиште дијететских суплемената је у великој експанзији!! (5,3 милијарде долара,1000 нових у току само једне године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ивно промовисани у медијима, веома често са звучним обећањима о ефикасности, и често без упозорења о евентуалној опас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СКА ИСХРАН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сти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чије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е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е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ујћим нутријентима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ремена спортска исхрана 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у основу у складу са принципима рационалне исхр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ње оптималне дијете није лак процес и мора 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атрати холистички, са физиолошког, културолошког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ог асп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е потребе се задовољавају када спортиста конзуми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у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ује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ан енергетски унос - одржавање енергетск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н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нс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ођен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им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ам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врсне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неопходне нутријен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ЕВИ СПОРТСКЕ ИСХРАН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довољавањ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их потреба неопходних у тренира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ивање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ног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ување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г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а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а</a:t>
            </a:r>
            <a:r>
              <a:rPr b="1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г</a:t>
            </a:r>
            <a:r>
              <a:rPr b="1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мањењ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а од болести и повреда током периода тешк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завање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е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вка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зање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ње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е</a:t>
            </a:r>
            <a:r>
              <a:rPr b="1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е</a:t>
            </a:r>
            <a:r>
              <a:rPr b="1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1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мич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ивање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ивање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орочне</a:t>
            </a:r>
            <a:r>
              <a:rPr b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ница правилне ис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дро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атрање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ука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них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и примену дијететских суплемен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Diagram 3" descr=""/>
          <p:cNvPicPr/>
          <p:nvPr/>
        </p:nvPicPr>
        <p:blipFill>
          <a:blip r:embed="rId1"/>
          <a:stretch/>
        </p:blipFill>
        <p:spPr>
          <a:xfrm>
            <a:off x="-6480" y="907920"/>
            <a:ext cx="9156960" cy="596916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СКА ИСХРАНА </a:t>
            </a:r>
            <a:r>
              <a:rPr b="1" lang="en-US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2"/>
          <p:cNvSpPr/>
          <p:nvPr/>
        </p:nvSpPr>
        <p:spPr>
          <a:xfrm>
            <a:off x="1371600" y="2819520"/>
            <a:ext cx="655308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5294"/>
                </a:srgbClr>
              </a:gs>
              <a:gs pos="50000">
                <a:srgbClr val="ffffff"/>
              </a:gs>
              <a:gs pos="100000">
                <a:srgbClr val="4f81b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2133720" y="1066680"/>
            <a:ext cx="510516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omic Sans MS"/>
              </a:rPr>
              <a:t>ОПТИМАЛНА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omic Sans MS"/>
              </a:rPr>
              <a:t>ДИЈЕТА</a:t>
            </a:r>
            <a:r>
              <a:rPr b="1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1295280" y="2819520"/>
            <a:ext cx="6629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јена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дило правил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ис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4800600" y="243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AutoShape 9"/>
          <p:cNvSpPr/>
          <p:nvPr/>
        </p:nvSpPr>
        <p:spPr>
          <a:xfrm>
            <a:off x="4267080" y="228600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ffffff"/>
          </a:solidFill>
          <a:ln cap="sq"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AutoShape 11"/>
          <p:cNvSpPr/>
          <p:nvPr/>
        </p:nvSpPr>
        <p:spPr>
          <a:xfrm>
            <a:off x="1371600" y="4648320"/>
            <a:ext cx="65530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31372"/>
                </a:srgbClr>
              </a:gs>
              <a:gs pos="50000">
                <a:srgbClr val="ffffff"/>
              </a:gs>
              <a:gs pos="100000">
                <a:srgbClr val="4f81bd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ајнира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ланирано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AutoShape 9"/>
          <p:cNvSpPr/>
          <p:nvPr/>
        </p:nvSpPr>
        <p:spPr>
          <a:xfrm>
            <a:off x="4191120" y="403848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ff"/>
          </a:solidFill>
          <a:ln cap="sq"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СКА ИСХРАНА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AutoShape 3"/>
          <p:cNvSpPr/>
          <p:nvPr/>
        </p:nvSpPr>
        <p:spPr>
          <a:xfrm>
            <a:off x="1676520" y="2057400"/>
            <a:ext cx="58672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6078"/>
                </a:srgbClr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ЛОГ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ХРАН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РГАНИЗМУ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AutoShape 5"/>
          <p:cNvSpPr/>
          <p:nvPr/>
        </p:nvSpPr>
        <p:spPr>
          <a:xfrm>
            <a:off x="3200400" y="4648320"/>
            <a:ext cx="25909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42352"/>
                </a:srgbClr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ШТИТНА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6172200" y="4572000"/>
            <a:ext cx="25909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46274"/>
                </a:srgbClr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ЕНЕРГЕТС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48006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AutoShape 5"/>
          <p:cNvSpPr/>
          <p:nvPr/>
        </p:nvSpPr>
        <p:spPr>
          <a:xfrm>
            <a:off x="304920" y="4648320"/>
            <a:ext cx="259056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48235"/>
                </a:srgbClr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ГРАДИВНА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omic Sans MS"/>
              </a:rPr>
              <a:t>СПОРТСКА ИСХРАНА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AutoShape 14"/>
          <p:cNvSpPr/>
          <p:nvPr/>
        </p:nvSpPr>
        <p:spPr>
          <a:xfrm rot="3102600">
            <a:off x="6087600" y="375624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AutoShape 15"/>
          <p:cNvSpPr/>
          <p:nvPr/>
        </p:nvSpPr>
        <p:spPr>
          <a:xfrm rot="5400000">
            <a:off x="4038120" y="384804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AutoShape 16"/>
          <p:cNvSpPr/>
          <p:nvPr/>
        </p:nvSpPr>
        <p:spPr>
          <a:xfrm rot="7530000">
            <a:off x="1834560" y="378756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трошња</a:t>
            </a:r>
            <a:r>
              <a:rPr b="1" lang="sl-SI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енергије</a:t>
            </a:r>
            <a:r>
              <a:rPr b="1" lang="sl-SI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и</a:t>
            </a:r>
            <a:r>
              <a:rPr b="1" lang="sl-SI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азличитим</a:t>
            </a:r>
            <a:r>
              <a:rPr b="1" lang="sl-SI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ктивностима</a:t>
            </a:r>
            <a:r>
              <a:rPr b="1" lang="sl-SI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Comic Sans MS"/>
              </a:rPr>
              <a:t>kJ/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0" y="12189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авање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27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Одмарање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едећем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таву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41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Читање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тихо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439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Читање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гласно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49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Лагани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ход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83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Брзо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ходање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125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Вожња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бициклом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                  171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ливање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209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Трчање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238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ењање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l-SI" sz="2600" spc="-1" strike="noStrike">
                <a:solidFill>
                  <a:srgbClr val="000000"/>
                </a:solidFill>
                <a:latin typeface="Comic Sans MS"/>
              </a:rPr>
              <a:t>460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трошак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енергиј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вис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тензитет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рајањ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рст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чк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ктивност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3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 одлике дијететских суплемената: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- Дефиниција и врсте.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тицај примене дијететских суплемената на организам.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 суплементи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, регулатива, стату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 суплемент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даци исхрани) су намирнице ко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њују нормалну исхрану и представљају концентроване извор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а, минерала или других супстанци са храњивим или физиолошким ефектом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о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и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у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ним облицима дизајниране да се узму у одмереним појединачни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ма (капсуле, таблете, кесице прашка, ампуле течности, бочиц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е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ма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е чињенице које карактеришу дијететске суплементе с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сани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ену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е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но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им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ма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у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а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уштена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ђачу</a:t>
            </a:r>
            <a:r>
              <a:rPr b="0" lang="vi-V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ашавање и рекламирање је дозвољено ка општој јавности 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ја је слобод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.... ...БРЖЕ..........ЈАЧЕ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Е......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УРНО....ЕФИКАСНО...ЛЕГАЛНО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</a:t>
            </a:r>
            <a:r>
              <a:rPr b="1" lang="sr-Latn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о спортисти користе суплементе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зањ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авк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7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љшање здравља – 5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љшање перформанси – 4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 или терапија болести – 4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говарајућа дијета – 29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ом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А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ник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х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спортист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предност може обезбеди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dietary supplements by athle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ughan, Depiesse, Geyer; 2007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00600" cy="15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уплементација у спорт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јпопуларнији суплемен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ко 70 % их кори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де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рема састав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рема намен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рема ефикас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7" descr="supplements1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одела дијететских суплемена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6" name="Diagram 6"/>
          <p:cNvGrpSpPr/>
          <p:nvPr/>
        </p:nvGrpSpPr>
        <p:grpSpPr>
          <a:xfrm>
            <a:off x="666360" y="988560"/>
            <a:ext cx="7810200" cy="5716440"/>
            <a:chOff x="666360" y="988560"/>
            <a:chExt cx="7810200" cy="5716440"/>
          </a:xfrm>
        </p:grpSpPr>
        <p:sp>
          <p:nvSpPr>
            <p:cNvPr id="547" name="_s1028"/>
            <p:cNvSpPr/>
            <p:nvPr/>
          </p:nvSpPr>
          <p:spPr>
            <a:xfrm flipH="1" flipV="1">
              <a:off x="2691360" y="3130560"/>
              <a:ext cx="939960" cy="35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_s1029"/>
            <p:cNvSpPr/>
            <p:nvPr/>
          </p:nvSpPr>
          <p:spPr>
            <a:xfrm>
              <a:off x="666360" y="2058480"/>
              <a:ext cx="2171160" cy="142992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BILJNI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SUPLEMENTI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_s1030"/>
            <p:cNvSpPr/>
            <p:nvPr/>
          </p:nvSpPr>
          <p:spPr>
            <a:xfrm flipH="1">
              <a:off x="2691360" y="4203360"/>
              <a:ext cx="93996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_s1031"/>
            <p:cNvSpPr/>
            <p:nvPr/>
          </p:nvSpPr>
          <p:spPr>
            <a:xfrm>
              <a:off x="666360" y="4203360"/>
              <a:ext cx="2171160" cy="142956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METABOLITI/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KOSTITUENSI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1" name="_s1032"/>
            <p:cNvSpPr/>
            <p:nvPr/>
          </p:nvSpPr>
          <p:spPr>
            <a:xfrm>
              <a:off x="4571640" y="4560840"/>
              <a:ext cx="0" cy="71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2" name="_s1033"/>
            <p:cNvSpPr/>
            <p:nvPr/>
          </p:nvSpPr>
          <p:spPr>
            <a:xfrm>
              <a:off x="3485880" y="5275440"/>
              <a:ext cx="2171160" cy="1429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KOMBINOVANI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3" name="_s1034"/>
            <p:cNvSpPr/>
            <p:nvPr/>
          </p:nvSpPr>
          <p:spPr>
            <a:xfrm>
              <a:off x="5511240" y="4203360"/>
              <a:ext cx="93996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4" name="_s1035"/>
            <p:cNvSpPr/>
            <p:nvPr/>
          </p:nvSpPr>
          <p:spPr>
            <a:xfrm>
              <a:off x="6305400" y="4203360"/>
              <a:ext cx="2171160" cy="14295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AMINOKISELIN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5" name="_s1036"/>
            <p:cNvSpPr/>
            <p:nvPr/>
          </p:nvSpPr>
          <p:spPr>
            <a:xfrm flipV="1">
              <a:off x="5511240" y="3133080"/>
              <a:ext cx="93996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_s1037"/>
            <p:cNvSpPr/>
            <p:nvPr/>
          </p:nvSpPr>
          <p:spPr>
            <a:xfrm>
              <a:off x="6305400" y="2061000"/>
              <a:ext cx="2171160" cy="14295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MINERALI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_s1038"/>
            <p:cNvSpPr/>
            <p:nvPr/>
          </p:nvSpPr>
          <p:spPr>
            <a:xfrm flipV="1">
              <a:off x="4571640" y="2417760"/>
              <a:ext cx="0" cy="71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_s1039"/>
            <p:cNvSpPr/>
            <p:nvPr/>
          </p:nvSpPr>
          <p:spPr>
            <a:xfrm>
              <a:off x="3485880" y="988560"/>
              <a:ext cx="2171160" cy="14295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omic Sans MS"/>
                </a:rPr>
                <a:t>VITAMINI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_s1040"/>
            <p:cNvSpPr/>
            <p:nvPr/>
          </p:nvSpPr>
          <p:spPr>
            <a:xfrm>
              <a:off x="3485880" y="3133080"/>
              <a:ext cx="2171160" cy="14295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Comic Sans MS"/>
                </a:rPr>
                <a:t>DIJETETSKI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Comic Sans MS"/>
                </a:rPr>
                <a:t>SUPLEMENTI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0" name="Rectangle 4"/>
          <p:cNvSpPr/>
          <p:nvPr/>
        </p:nvSpPr>
        <p:spPr>
          <a:xfrm>
            <a:off x="3951360" y="1523880"/>
            <a:ext cx="13222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итами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838080" y="2438280"/>
            <a:ext cx="167652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иљни суплемен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6629400" y="2590920"/>
            <a:ext cx="167652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инера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733920" y="3581280"/>
            <a:ext cx="167616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ијететски суплемен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914400" y="4572000"/>
            <a:ext cx="167652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етаболити/конституенс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Rectangle 9"/>
          <p:cNvSpPr/>
          <p:nvPr/>
        </p:nvSpPr>
        <p:spPr>
          <a:xfrm>
            <a:off x="3657600" y="5791320"/>
            <a:ext cx="18288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омбинова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6400800" y="4724280"/>
            <a:ext cx="1981080" cy="642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минокиселин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Коришћење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суплемената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врхунских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omic Sans MS"/>
              </a:rPr>
              <a:t>спорти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962160" y="1412640"/>
            <a:ext cx="51814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устралијски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ливачи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(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=7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207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азличитих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оизво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(Baylis, 200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85840" y="3644640"/>
            <a:ext cx="525780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анадски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портисти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И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иднеју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тланти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(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25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(Huang, 200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4648320" y="1905120"/>
            <a:ext cx="3886200" cy="825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% 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</a:rPr>
              <a:t>користило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</a:rPr>
              <a:t>суплемен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1" name="Picture 6" descr="SS07015"/>
          <p:cNvPicPr/>
          <p:nvPr/>
        </p:nvPicPr>
        <p:blipFill>
          <a:blip r:embed="rId1"/>
          <a:stretch/>
        </p:blipFill>
        <p:spPr>
          <a:xfrm>
            <a:off x="0" y="1447920"/>
            <a:ext cx="3925800" cy="541008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13"/>
          <p:cNvSpPr/>
          <p:nvPr/>
        </p:nvSpPr>
        <p:spPr>
          <a:xfrm>
            <a:off x="4800600" y="4876920"/>
            <a:ext cx="3600360" cy="1557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69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% 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</a:rPr>
              <a:t>спортиста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</a:rPr>
              <a:t>Атла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74% 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</a:rPr>
              <a:t>спортиста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sr-RS" sz="2400" spc="-1" strike="noStrike">
                <a:solidFill>
                  <a:srgbClr val="000000"/>
                </a:solidFill>
                <a:latin typeface="Garamond"/>
              </a:rPr>
              <a:t>Сидне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435276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mic Sans MS"/>
                <a:ea typeface="Tunga"/>
              </a:rPr>
              <a:t>Коришћење</a:t>
            </a:r>
            <a:r>
              <a:rPr b="0" lang="sr-Latn-CS" sz="3200" spc="-1" strike="noStrike">
                <a:solidFill>
                  <a:srgbClr val="002060"/>
                </a:solidFill>
                <a:latin typeface="Comic Sans MS"/>
                <a:ea typeface="Tung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omic Sans MS"/>
                <a:ea typeface="Tunga"/>
              </a:rPr>
              <a:t>дијететских</a:t>
            </a:r>
            <a:r>
              <a:rPr b="0" lang="sr-Latn-CS" sz="3200" spc="-1" strike="noStrike">
                <a:solidFill>
                  <a:srgbClr val="002060"/>
                </a:solidFill>
                <a:latin typeface="Comic Sans MS"/>
                <a:ea typeface="Tung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omic Sans MS"/>
                <a:ea typeface="Tunga"/>
              </a:rPr>
              <a:t>суплемена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Object 2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3857400" cy="1876320"/>
          </a:xfrm>
          <a:prstGeom prst="rect">
            <a:avLst/>
          </a:prstGeom>
          <a:ln w="0">
            <a:noFill/>
          </a:ln>
        </p:spPr>
      </p:pic>
      <p:pic>
        <p:nvPicPr>
          <p:cNvPr id="575" name="Object 4" descr=""/>
          <p:cNvPicPr/>
          <p:nvPr/>
        </p:nvPicPr>
        <p:blipFill>
          <a:blip r:embed="rId2"/>
          <a:stretch/>
        </p:blipFill>
        <p:spPr>
          <a:xfrm>
            <a:off x="635040" y="3378240"/>
            <a:ext cx="7950240" cy="3530520"/>
          </a:xfrm>
          <a:prstGeom prst="rect">
            <a:avLst/>
          </a:prstGeom>
          <a:ln w="0">
            <a:noFill/>
          </a:ln>
        </p:spPr>
      </p:pic>
      <p:pic>
        <p:nvPicPr>
          <p:cNvPr id="576" name="Object 5" descr=""/>
          <p:cNvPicPr/>
          <p:nvPr/>
        </p:nvPicPr>
        <p:blipFill>
          <a:blip r:embed="rId3"/>
          <a:stretch/>
        </p:blipFill>
        <p:spPr>
          <a:xfrm>
            <a:off x="4808520" y="1106640"/>
            <a:ext cx="3646440" cy="1998360"/>
          </a:xfrm>
          <a:prstGeom prst="rect">
            <a:avLst/>
          </a:prstGeom>
          <a:ln w="0">
            <a:noFill/>
          </a:ln>
        </p:spPr>
      </p:pic>
      <p:sp>
        <p:nvSpPr>
          <p:cNvPr id="577" name="TextBox 6"/>
          <p:cNvSpPr/>
          <p:nvPr/>
        </p:nvSpPr>
        <p:spPr>
          <a:xfrm>
            <a:off x="1605240" y="642960"/>
            <a:ext cx="772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ра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TextBox 7"/>
          <p:cNvSpPr/>
          <p:nvPr/>
        </p:nvSpPr>
        <p:spPr>
          <a:xfrm>
            <a:off x="6034320" y="642960"/>
            <a:ext cx="7722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ра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mic Sans MS"/>
                <a:ea typeface="Tunga"/>
              </a:rPr>
              <a:t>Употреба</a:t>
            </a:r>
            <a:r>
              <a:rPr b="1" lang="sr-Latn-CS" sz="2800" spc="-1" strike="noStrike">
                <a:solidFill>
                  <a:srgbClr val="002060"/>
                </a:solidFill>
                <a:latin typeface="Comic Sans MS"/>
                <a:ea typeface="Tung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omic Sans MS"/>
                <a:ea typeface="Tunga"/>
              </a:rPr>
              <a:t>дијететских</a:t>
            </a:r>
            <a:r>
              <a:rPr b="1" lang="sr-Latn-CS" sz="2800" spc="-1" strike="noStrike">
                <a:solidFill>
                  <a:srgbClr val="002060"/>
                </a:solidFill>
                <a:latin typeface="Comic Sans MS"/>
                <a:ea typeface="Tung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omic Sans MS"/>
                <a:ea typeface="Tunga"/>
              </a:rPr>
              <a:t>суплемената</a:t>
            </a:r>
            <a:r>
              <a:rPr b="1" lang="sr-Latn-CS" sz="2800" spc="-1" strike="noStrike">
                <a:solidFill>
                  <a:srgbClr val="002060"/>
                </a:solidFill>
                <a:latin typeface="Comic Sans MS"/>
                <a:ea typeface="Tung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omic Sans MS"/>
                <a:ea typeface="Tunga"/>
              </a:rPr>
              <a:t>по</a:t>
            </a:r>
            <a:r>
              <a:rPr b="1" lang="sr-Latn-CS" sz="2800" spc="-1" strike="noStrike">
                <a:solidFill>
                  <a:srgbClr val="002060"/>
                </a:solidFill>
                <a:latin typeface="Comic Sans MS"/>
                <a:ea typeface="Tung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omic Sans MS"/>
                <a:ea typeface="Tunga"/>
              </a:rPr>
              <a:t>врстама</a:t>
            </a:r>
            <a:r>
              <a:rPr b="1" lang="en-US" sz="2000" spc="-1" strike="noStrike">
                <a:solidFill>
                  <a:srgbClr val="002060"/>
                </a:solidFill>
                <a:latin typeface="Comic Sans MS"/>
                <a:ea typeface="Tung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Chart 3" descr=""/>
          <p:cNvPicPr/>
          <p:nvPr/>
        </p:nvPicPr>
        <p:blipFill>
          <a:blip r:embed="rId1"/>
          <a:stretch/>
        </p:blipFill>
        <p:spPr>
          <a:xfrm>
            <a:off x="-6480" y="603360"/>
            <a:ext cx="9156960" cy="626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и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ата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зи за примен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 у испуњавању нутриционих захт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љшање перформан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бо ефек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зи против примен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и ефек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мерни допин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итак примарног циља- добар тренин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с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уј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бичајено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тивн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н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љај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ц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њуј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ј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јената (витами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љив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ом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н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м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ајнира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ај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ен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м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сиц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пул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чиц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м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;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онална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fi-F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њуј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о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ник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х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ата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ају: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им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тивним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ама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им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ом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их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ака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х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и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ћи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о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ј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ништва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а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ице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сти</a:t>
            </a:r>
            <a:r>
              <a:rPr b="0" lang="h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 питања која морамо поставити за сваки суплеме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ал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суплемената према врсти и састав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0" y="685800"/>
          <a:ext cx="9144000" cy="6786720"/>
        </p:xfrm>
        <a:graphic>
          <a:graphicData uri="http://schemas.openxmlformats.org/drawingml/2006/table">
            <a:tbl>
              <a:tblPr/>
              <a:tblGrid>
                <a:gridCol w="3581280"/>
                <a:gridCol w="5562720"/>
              </a:tblGrid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тами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тамин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, E,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тамин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ералне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р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меници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ектролита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Na, K, 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, Fe, C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карбонат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т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88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боли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ат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HMB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руват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L-karnit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дростендио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хормо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љни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плементи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тохемикал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Rhodiola ros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ерцет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88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ституенс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ицеро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боз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ензи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Q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инокиселине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теи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теин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ру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β-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ан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утам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ле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минокисели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з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иотиц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укоза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рема нивоу доказ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ј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стралијског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итут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з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ован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и и безбед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Група А - одобрени суплем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рупа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-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плементи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ји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матрањ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рупа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-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плементи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је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тоји</a:t>
            </a:r>
            <a:r>
              <a:rPr b="1" lang="pl-PL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јас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каз о корисном дејст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па Д - забрањени суплем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суплемената према ефекасности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езбед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0" y="1143000"/>
          <a:ext cx="9144000" cy="5875200"/>
        </p:xfrm>
        <a:graphic>
          <a:graphicData uri="http://schemas.openxmlformats.org/drawingml/2006/table">
            <a:tbl>
              <a:tblPr/>
              <a:tblGrid>
                <a:gridCol w="4724280"/>
                <a:gridCol w="4419720"/>
              </a:tblGrid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1" lang="sr-Latn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фе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ат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карбонат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, C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ини суру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иотиц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ска пић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ск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лов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1" lang="sr-Latn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B</a:t>
                      </a: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-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н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-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нит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ерцет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л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фенол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сиданс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85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1" lang="sr-Latn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C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оз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ензи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Q10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же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козам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уват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з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ол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л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племен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1" lang="sr-Latn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др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ихн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утра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ростендио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рмо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цер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Витамински</a:t>
            </a:r>
            <a:r>
              <a:rPr b="1" lang="sr-Latn-C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суплемен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11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3962520" cy="32004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575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Витамини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регулатори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метаболизма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утичу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многобројне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физиолошке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процесе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битне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физичку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активност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комплекс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→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метаболизам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УХ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и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масти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формирање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хемоглобина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Вит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Ц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и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Е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→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антиоксиданси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Дефицит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витамина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смањује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ефикасност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вежбања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Најпопуларнији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дијететски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суплементи</a:t>
            </a: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!!!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Да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ли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утичу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на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побољшање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ефикасности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                      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тренинга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и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спортских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резултата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је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предмет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многобројних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студија</a:t>
            </a:r>
            <a:r>
              <a:rPr b="0" lang="sr-Latn-CS" sz="23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?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ск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0" y="762120"/>
          <a:ext cx="9144000" cy="63640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3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уп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имена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ј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ежељ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фек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иво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ока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ат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3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лтивитамин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енциј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иц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3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боличк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ен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еомалац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штит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шић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шт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љ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ч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раћа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ип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теће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бре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Минералне матер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иј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гадоз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поручу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нутријенти који се најчешће конзумирају у недовољн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ма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цијум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осеб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лцију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та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сфор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вожђ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нган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S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е - статус 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-360" y="533520"/>
            <a:ext cx="6553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и дефици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аленц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а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је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во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емоглобина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рмал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 ниво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ритина у серуму испод 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-3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g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l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е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зано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им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ом на тренин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 же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ча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ит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емоглобин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ан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</a:t>
            </a: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ранспорт</a:t>
            </a: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исеоник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глобина, који предствља складиште кисеоника у мишић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A је 15 m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ли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фицит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вожђ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о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ти на спортске перформан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6" descr="lowblood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6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татус калцију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0" y="838080"/>
            <a:ext cx="5562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мањење коштане ма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алцијум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еопходан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ормирањ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државањ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ост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ако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мерен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чк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ктивност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неопходн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ормирањ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остију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тензивн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ренинз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огу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реметит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енструалн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циклус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овест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ормонског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исбаланс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што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тич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дрављ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ост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рло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ажно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схран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портист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рочито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жен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адржи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овољн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оличине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алциј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6" descr="iStock_000005066220XSmall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с калцију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цијум је неопходан за формирање и одржавање кост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ако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ње костију, интензивни тренинзи могу пореметити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струални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ус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сти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хормонског дисбаланса, што утиче на здравље кост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а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ста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чито жена, садржи довољне количине калциј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 суплементи су намирнице ко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њују нормалну исхрану и представља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е изворе нутријената (витам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а и других супстанци са хранљивим 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м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ом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ним фармацеутским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ма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ајниране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ај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еним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им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ма (капсуле, таблете, капи и с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онална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</a:t>
            </a:r>
            <a:r>
              <a:rPr b="0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замењују појединачне оброке и но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у «дијететски суплемент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Атлетичарск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тријад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15" descr="2009_World_Championships_in_Athletics,_women_marathon"/>
          <p:cNvPicPr/>
          <p:nvPr/>
        </p:nvPicPr>
        <p:blipFill>
          <a:blip r:embed="rId1"/>
          <a:stretch/>
        </p:blipFill>
        <p:spPr>
          <a:xfrm>
            <a:off x="5996160" y="0"/>
            <a:ext cx="3147840" cy="6858000"/>
          </a:xfrm>
          <a:prstGeom prst="rect">
            <a:avLst/>
          </a:prstGeom>
          <a:ln w="0">
            <a:noFill/>
          </a:ln>
        </p:spPr>
      </p:pic>
      <p:pic>
        <p:nvPicPr>
          <p:cNvPr id="608" name="Diagram 4" descr=""/>
          <p:cNvPicPr/>
          <p:nvPr/>
        </p:nvPicPr>
        <p:blipFill>
          <a:blip r:embed="rId2"/>
          <a:stretch/>
        </p:blipFill>
        <p:spPr>
          <a:xfrm>
            <a:off x="-6480" y="907920"/>
            <a:ext cx="58770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ни суплементи-оста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0" y="685800"/>
          <a:ext cx="9144000" cy="6172200"/>
        </p:xfrm>
        <a:graphic>
          <a:graphicData uri="http://schemas.openxmlformats.org/drawingml/2006/table">
            <a:tbl>
              <a:tblPr/>
              <a:tblGrid>
                <a:gridCol w="2286000"/>
                <a:gridCol w="2362320"/>
                <a:gridCol w="2438280"/>
                <a:gridCol w="20574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плем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на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ј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жеље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фек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во</a:t>
                      </a:r>
                      <a:r>
                        <a:rPr b="1" lang="sr-Latn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каза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т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и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л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иј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хидратаци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енциј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понатријеми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окнад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л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</a:t>
                      </a: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колин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в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етљивост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улинск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цеп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болич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бедан</a:t>
                      </a: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</a:t>
                      </a: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истити</a:t>
                      </a: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</a:t>
                      </a: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з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КОРИС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 Америчке дијететске асоцијације је да суплемен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им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им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је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опходна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ст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љне количине витамина и минерала путем разноврсне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но избалансиране исхра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ак, употеба поједних витамина и минерала, као и мултивитаминских и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тиминералних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равдан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чајевима посебних режима исхране као што је вегетаријан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и енергетски унос у циљу смањења телесне ма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ста је немоћан или невољан да прошири разноврсност у исхра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дужих путовање или на други начин лимитираним изворима хра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Оксидативни</a:t>
            </a:r>
            <a:r>
              <a:rPr b="0" lang="sr-Latn-C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стрес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Picture 6" descr="radlogo"/>
          <p:cNvPicPr/>
          <p:nvPr/>
        </p:nvPicPr>
        <p:blipFill>
          <a:blip r:embed="rId1"/>
          <a:stretch/>
        </p:blipFill>
        <p:spPr>
          <a:xfrm>
            <a:off x="3619440" y="31240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3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Оксидативни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стрес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 стање у коме је деликатна равотежа између продукције про-оксиданаса-слободних радикала и њиховог уклањања путем антиоксидативних заштитиних механизама померена у смеру стварања слободних радикал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Слободни</a:t>
            </a:r>
            <a:r>
              <a:rPr b="1" lang="sr-Latn-CS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радикал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ом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омск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руп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лекул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мај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дан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иш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спарених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лектрона → нестабилн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активн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ОКСИДАТИВНИ</a:t>
            </a:r>
            <a:r>
              <a:rPr b="1" lang="sr-Latn-C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СТРЕС</a:t>
            </a:r>
            <a:r>
              <a:rPr b="1" lang="sr-Latn-C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sr-Latn-CS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СПОР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AutoShape 3"/>
          <p:cNvSpPr/>
          <p:nvPr/>
        </p:nvSpPr>
        <p:spPr>
          <a:xfrm>
            <a:off x="1386000" y="1782720"/>
            <a:ext cx="1600200" cy="781200"/>
          </a:xfrm>
          <a:custGeom>
            <a:avLst/>
            <a:gdLst>
              <a:gd name="textAreaLeft" fmla="*/ 234360 w 1600200"/>
              <a:gd name="textAreaRight" fmla="*/ 1365840 w 1600200"/>
              <a:gd name="textAreaTop" fmla="*/ 114120 h 781200"/>
              <a:gd name="textAreaBottom" fmla="*/ 667080 h 781200"/>
            </a:gdLst>
            <a:ahLst/>
            <a:rect l="textAreaLeft" t="textAreaTop" r="textAreaRight" b="textAreaBottom"/>
            <a:pathLst>
              <a:path w="21600" h="21600">
                <a:moveTo>
                  <a:pt x="16860" y="4812"/>
                </a:moveTo>
                <a:cubicBezTo>
                  <a:pt x="15260" y="3191"/>
                  <a:pt x="13077" y="2280"/>
                  <a:pt x="10800" y="2280"/>
                </a:cubicBezTo>
                <a:cubicBezTo>
                  <a:pt x="7028" y="2279"/>
                  <a:pt x="3705" y="4759"/>
                  <a:pt x="2632" y="8375"/>
                </a:cubicBezTo>
                <a:lnTo>
                  <a:pt x="446" y="7727"/>
                </a:lnTo>
                <a:cubicBezTo>
                  <a:pt x="1806" y="3143"/>
                  <a:pt x="6018" y="-1"/>
                  <a:pt x="10800" y="0"/>
                </a:cubicBezTo>
                <a:cubicBezTo>
                  <a:pt x="13687" y="0"/>
                  <a:pt x="16453" y="1155"/>
                  <a:pt x="18482" y="3209"/>
                </a:cubicBezTo>
                <a:lnTo>
                  <a:pt x="20403" y="1312"/>
                </a:lnTo>
                <a:lnTo>
                  <a:pt x="20370" y="6741"/>
                </a:lnTo>
                <a:lnTo>
                  <a:pt x="14940" y="6709"/>
                </a:lnTo>
                <a:lnTo>
                  <a:pt x="16860" y="481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Text Box 4"/>
          <p:cNvSpPr/>
          <p:nvPr/>
        </p:nvSpPr>
        <p:spPr>
          <a:xfrm flipV="1" rot="10800000">
            <a:off x="1066320" y="2361240"/>
            <a:ext cx="1521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физички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напо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2916360" y="1773360"/>
            <a:ext cx="2950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овећан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отрошњ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кисеони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6443640" y="306864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5486400" y="3336840"/>
            <a:ext cx="3352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овећан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количин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слободних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радикал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4191120" y="5238720"/>
            <a:ext cx="216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оштећење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ћелиј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828720" y="443700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228600" y="544500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мор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шић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utoShape 11"/>
          <p:cNvSpPr/>
          <p:nvPr/>
        </p:nvSpPr>
        <p:spPr>
          <a:xfrm>
            <a:off x="2895480" y="5661000"/>
            <a:ext cx="1368720" cy="216000"/>
          </a:xfrm>
          <a:prstGeom prst="leftArrow">
            <a:avLst>
              <a:gd name="adj1" fmla="val 50000"/>
              <a:gd name="adj2" fmla="val 15841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6" name="Picture 12" descr="images11"/>
          <p:cNvPicPr/>
          <p:nvPr/>
        </p:nvPicPr>
        <p:blipFill>
          <a:blip r:embed="rId1"/>
          <a:stretch/>
        </p:blipFill>
        <p:spPr>
          <a:xfrm>
            <a:off x="6858000" y="1436760"/>
            <a:ext cx="1805040" cy="1915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3" descr="overtrainning"/>
          <p:cNvPicPr/>
          <p:nvPr/>
        </p:nvPicPr>
        <p:blipFill>
          <a:blip r:embed="rId2"/>
          <a:stretch/>
        </p:blipFill>
        <p:spPr>
          <a:xfrm>
            <a:off x="1276200" y="3284640"/>
            <a:ext cx="1695600" cy="20890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4" descr="2006_05_20_overtraining_3"/>
          <p:cNvPicPr/>
          <p:nvPr/>
        </p:nvPicPr>
        <p:blipFill>
          <a:blip r:embed="rId3"/>
          <a:stretch/>
        </p:blipFill>
        <p:spPr>
          <a:xfrm>
            <a:off x="7286760" y="4624560"/>
            <a:ext cx="1857240" cy="2233440"/>
          </a:xfrm>
          <a:prstGeom prst="rect">
            <a:avLst/>
          </a:prstGeom>
          <a:ln w="0">
            <a:noFill/>
          </a:ln>
        </p:spPr>
      </p:pic>
      <p:sp>
        <p:nvSpPr>
          <p:cNvPr id="629" name="AutoShape 15"/>
          <p:cNvSpPr/>
          <p:nvPr/>
        </p:nvSpPr>
        <p:spPr>
          <a:xfrm rot="7836600">
            <a:off x="5937840" y="4275720"/>
            <a:ext cx="1368360" cy="1052640"/>
          </a:xfrm>
          <a:custGeom>
            <a:avLst/>
            <a:gdLst>
              <a:gd name="textAreaLeft" fmla="*/ 200160 w 1368360"/>
              <a:gd name="textAreaRight" fmla="*/ 1168200 w 1368360"/>
              <a:gd name="textAreaTop" fmla="*/ 154080 h 1052640"/>
              <a:gd name="textAreaBottom" fmla="*/ 898560 h 1052640"/>
            </a:gdLst>
            <a:ahLst/>
            <a:rect l="textAreaLeft" t="textAreaTop" r="textAreaRight" b="textAreaBottom"/>
            <a:pathLst>
              <a:path w="21600" h="21600">
                <a:moveTo>
                  <a:pt x="16860" y="4812"/>
                </a:moveTo>
                <a:cubicBezTo>
                  <a:pt x="15260" y="3191"/>
                  <a:pt x="13077" y="2280"/>
                  <a:pt x="10800" y="2280"/>
                </a:cubicBezTo>
                <a:cubicBezTo>
                  <a:pt x="7028" y="2279"/>
                  <a:pt x="3705" y="4759"/>
                  <a:pt x="2632" y="8375"/>
                </a:cubicBezTo>
                <a:lnTo>
                  <a:pt x="446" y="7727"/>
                </a:lnTo>
                <a:cubicBezTo>
                  <a:pt x="1806" y="3143"/>
                  <a:pt x="6018" y="-1"/>
                  <a:pt x="10800" y="0"/>
                </a:cubicBezTo>
                <a:cubicBezTo>
                  <a:pt x="13687" y="0"/>
                  <a:pt x="16453" y="1155"/>
                  <a:pt x="18482" y="3209"/>
                </a:cubicBezTo>
                <a:lnTo>
                  <a:pt x="20403" y="1312"/>
                </a:lnTo>
                <a:lnTo>
                  <a:pt x="20370" y="6741"/>
                </a:lnTo>
                <a:lnTo>
                  <a:pt x="14940" y="6709"/>
                </a:lnTo>
                <a:lnTo>
                  <a:pt x="16860" y="481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AutoShape 16"/>
          <p:cNvSpPr/>
          <p:nvPr/>
        </p:nvSpPr>
        <p:spPr>
          <a:xfrm rot="2281800">
            <a:off x="5333760" y="2058480"/>
            <a:ext cx="1717560" cy="986040"/>
          </a:xfrm>
          <a:custGeom>
            <a:avLst/>
            <a:gdLst>
              <a:gd name="textAreaLeft" fmla="*/ 251280 w 1717560"/>
              <a:gd name="textAreaRight" fmla="*/ 1466280 w 1717560"/>
              <a:gd name="textAreaTop" fmla="*/ 144360 h 986040"/>
              <a:gd name="textAreaBottom" fmla="*/ 841680 h 986040"/>
            </a:gdLst>
            <a:ahLst/>
            <a:rect l="textAreaLeft" t="textAreaTop" r="textAreaRight" b="textAreaBottom"/>
            <a:pathLst>
              <a:path w="21600" h="21600">
                <a:moveTo>
                  <a:pt x="16860" y="4812"/>
                </a:moveTo>
                <a:cubicBezTo>
                  <a:pt x="15260" y="3191"/>
                  <a:pt x="13077" y="2280"/>
                  <a:pt x="10800" y="2280"/>
                </a:cubicBezTo>
                <a:cubicBezTo>
                  <a:pt x="7028" y="2279"/>
                  <a:pt x="3705" y="4759"/>
                  <a:pt x="2632" y="8375"/>
                </a:cubicBezTo>
                <a:lnTo>
                  <a:pt x="446" y="7727"/>
                </a:lnTo>
                <a:cubicBezTo>
                  <a:pt x="1806" y="3143"/>
                  <a:pt x="6018" y="-1"/>
                  <a:pt x="10800" y="0"/>
                </a:cubicBezTo>
                <a:cubicBezTo>
                  <a:pt x="13687" y="0"/>
                  <a:pt x="16453" y="1155"/>
                  <a:pt x="18482" y="3209"/>
                </a:cubicBezTo>
                <a:lnTo>
                  <a:pt x="20403" y="1312"/>
                </a:lnTo>
                <a:lnTo>
                  <a:pt x="20370" y="6741"/>
                </a:lnTo>
                <a:lnTo>
                  <a:pt x="14940" y="6709"/>
                </a:lnTo>
                <a:lnTo>
                  <a:pt x="16860" y="481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ободни радика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Најважнији</a:t>
            </a:r>
            <a:r>
              <a:rPr b="1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ијетарни</a:t>
            </a:r>
            <a:r>
              <a:rPr b="1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анитоксиданс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114800" y="11426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отенои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ипонска кисел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воноиди, лигнани, фено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фено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енз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г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3962520" y="586728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114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ssio H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farb A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o 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S Department, Miami University, Oxford, OH 45056, US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C (ascorbic acid) was supplemented (1 g/day) for 1 day and 2 weeks in the same subjects. Plasma thiobarbituric acid reacting substances (TBARS) and oxygen radical absorbance capacity (ORAC) before and after 30 min submaximal exercise were measured. Different vitamin C supplementations did not affect resting TBARS or ORAC. Following 30 min exercise, values for TBARS were 12.6 and 33% above rest with 1 day and 2 weeks of vitamin C supplementation, respectively, compared to 46% higher with placebo.                ORAC did not significantly change (11%) after exercise with a placebo, nor when subjects were given vitamin C supplements for 1 day or 2 days (4.9% and 5.73%, respectively). TBARS:ORAC, a ratio representing oxidative stress, increased 32% (p &lt; .05) with placebo compared to 5.8 and 25.8% with vitamin C supplements for 1 day and 2 weeks, respectivel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 was concluded that exercise-induced oxidative stress was highest when subjects did not supplement with vitamin C compared to either 1 day or 2 weeks of vitamin C supplement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0" y="5715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J Sport Nutr. 1997 Mar;7(1):1-9. Link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-induced oxidative stress before and after                                           vitamin C supplemen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корист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љан ефек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он краткорочне примене код спортиста код којих је присутно изненадно повећање стреса при тренира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д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ск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сниј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ењ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спољашње температуре или тренирање на већим надморским висин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Биљни дијететски суплемен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7 % женских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атлетичара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их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ори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Употреба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онтроверзна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себан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опрез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авет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тручног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ористе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већање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издржљивости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мањење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телесне масе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већање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телесне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масе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једињене</a:t>
            </a:r>
            <a:r>
              <a:rPr b="1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жав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н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ив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гл</a:t>
            </a:r>
            <a:r>
              <a:rPr b="0" lang="hr-BA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tar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ement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4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чк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целариј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ш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ван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рањ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б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их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ат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к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алн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љн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ч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т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т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ент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т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х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ска</a:t>
            </a:r>
            <a:r>
              <a:rPr b="1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ив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ск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ј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2/46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2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ј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н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н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исан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љивих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их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м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м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алн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жишт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ј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ил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ул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сиц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пул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ајниран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ирати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ено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м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ма</a:t>
            </a:r>
            <a:r>
              <a:rPr b="0" lang="hr-B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Жен</a:t>
            </a: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ш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даптоген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пуларан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пулациј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орт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Хиљад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одишњ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мен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ш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аријет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ољ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ан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мориј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мањен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мор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блажавањ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ол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рц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лавовбољ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узеј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ритерпенск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ликозид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апонин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ежељена дејства- несаница и узнемире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рупа Ц дијететских суплемена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и дијететски суплемен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0" y="963720"/>
          <a:ext cx="9144000" cy="51354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п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н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ј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жељени ефек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во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ка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т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odio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љни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ог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ан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емирен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ерцет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ње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форманс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КОРИСТ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верзна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ан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з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чног л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Хумане студије-инконзистентни резулта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врда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гогена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блем стандардизац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лучај ефед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уплементи са протеинима или аминокиселина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Веома популарни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ортској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опулацији, сматра се да повећавају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ретенцију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зот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овећавају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мишићну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мас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Њихов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употреб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оправдав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овећаним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отребам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ротеиним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код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ортист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о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1,7 g/kg/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ан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лободне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К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матр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мају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ергогени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ефекат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Д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Comic Sans MS"/>
              </a:rPr>
              <a:t>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ли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су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з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ист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Comic Sans MS"/>
              </a:rPr>
              <a:t>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потр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Comic Sans MS"/>
              </a:rPr>
              <a:t>e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бни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1"/>
          <a:stretch/>
        </p:blipFill>
        <p:spPr>
          <a:xfrm>
            <a:off x="6324480" y="3809880"/>
            <a:ext cx="2819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е протеина у организ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зим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ло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трансмитер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т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 потребе за протеиним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а одрасла особа               0,8 g/kg т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риоду адолесценције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 g/kg т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ови</a:t>
            </a:r>
            <a:r>
              <a:rPr b="0" lang="it-IT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ржљивости</a:t>
            </a:r>
            <a:r>
              <a:rPr b="0" lang="it-IT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 g/kg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м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ови снаге и брзине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 до 1,8 g/kg т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дибилдинг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до 3 g/kg т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временој исхрани унос протеина учествује са ок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о 15% 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%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г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оријског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малн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 са протеинима или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а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0" y="1066680"/>
          <a:ext cx="9144000" cy="6195960"/>
        </p:xfrm>
        <a:graphic>
          <a:graphicData uri="http://schemas.openxmlformats.org/drawingml/2006/table">
            <a:tbl>
              <a:tblPr/>
              <a:tblGrid>
                <a:gridCol w="2286000"/>
                <a:gridCol w="3429000"/>
                <a:gridCol w="1981080"/>
                <a:gridCol w="1447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п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н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ј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жељени</a:t>
                      </a:r>
                      <a:r>
                        <a:rPr b="1" lang="sr-Latn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фек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во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каза</a:t>
                      </a:r>
                      <a:r>
                        <a:rPr b="1" lang="sr-Latn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sr-Latn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т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и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у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о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инокисел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з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ењ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болич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2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-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н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тез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ноз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фе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шићи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сидан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стезиј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C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лаж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н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в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ржљив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њуј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градњ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та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енција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иј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нираних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етљиви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с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 са протеинима ил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а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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птофан, прекурсор серотон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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арагин, аргин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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нитин, лизин и аргин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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роз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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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тиче негативно на ф-ју бубрега, углавном безбедн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ако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ферирај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мом проте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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 није забрањена од стране W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корис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ирање 3 - 6 г есенцијалних аминокиселина или 18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а сурутке након вежбања стимулише синтезу проте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времено узимање угхљених хидрата и протеина након вежбања стимулише синтезу протеина, убрзава опоравак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ј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о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 унос пуновредних протеина повлачи за соб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 и веће количине масти. Могу бити корисни у циљу задовољењ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их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м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уноса непотребних ма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Ергогена сред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Picture 6" descr="QCJYF00Z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664" name="Content Placeholder 2"/>
          <p:cNvSpPr/>
          <p:nvPr/>
        </p:nvSpPr>
        <p:spPr>
          <a:xfrm>
            <a:off x="0" y="1066680"/>
            <a:ext cx="80773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0504d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Поступак који мозе д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повећа спортск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рформанс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0504d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За многе суплементе с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сматра да повољно делуј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кофе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натријум-хидроген карбон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креат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ш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њуј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дстављај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љив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о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т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н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м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ајниран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ај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ен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м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ил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ул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сиц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пул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чиц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м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актив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рикс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ш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бичајен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ам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дневној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рани</a:t>
            </a:r>
            <a:r>
              <a:rPr b="0" lang="h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Историјат примене ергогених средстав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уготрајан (500-400 п.н.е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Не мање од 40 % спортиста их користи, не мање од  600 д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ортск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схран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е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оистовећује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употребом ДС и ергогених средста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офе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0" y="609480"/>
            <a:ext cx="624852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ш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еоли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уч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рање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04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гогено сред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ониторинг листи W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5 mcg/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шољица кафе = 100mg = 1.5 mcg/ml          ури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гогени ефекат доказ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А дијететских суплемена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9" name="Picture 7" descr="9684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ФЕИН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ж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но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р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м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же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максимал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&gt; 90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г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зитета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-60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трај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рамаксимал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-5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овим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ржљивост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н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ов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овим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г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ФЕИН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и ефек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омн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хикард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3 мг/кг телесне масе, 60 мин п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а/такмич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енерација АТР током физичке активнос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ише се у јетри, бубрезима и панкреасу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арни</a:t>
            </a:r>
            <a:r>
              <a:rPr b="0" lang="it-IT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</a:t>
            </a:r>
            <a:r>
              <a:rPr b="0" lang="it-IT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</a:t>
            </a:r>
            <a:r>
              <a:rPr b="0" lang="it-IT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it-IT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кладиштен у мишићима и јетр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стљивост се може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ти узимањем уз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ок или уз угљене хидрат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ује се урином као креатинин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6" name="Picture 3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2971800" cy="10000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" descr=""/>
          <p:cNvPicPr/>
          <p:nvPr/>
        </p:nvPicPr>
        <p:blipFill>
          <a:blip r:embed="rId2"/>
          <a:stretch/>
        </p:blipFill>
        <p:spPr>
          <a:xfrm>
            <a:off x="6172200" y="3733920"/>
            <a:ext cx="2971800" cy="100008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5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971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гогени ефекат доказ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 мишићну масу и снагу током тренин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 перформансе код појединачних или поновљених спринт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 синтезу гликог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 капацитет физичке акт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 толеранција на трен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ђе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ни нежељени ефек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А дијететских суплемен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И СУПЛЕМЕНТАЦИЈЕ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О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ЊЕЊЕ/ОДРЖА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-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5г/дневно након т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НИСКИХ Д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5г/дневно у периоду тренир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НИ ПРОТОК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њење и одржавање током тренирања, без креатина током пауз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КАРБОНАТИ И ЦИТРА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у метаболичку ацидозу након напорног вежб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икарбон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н ергогени ефекат у тренингу високог интенз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ивањ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чањ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овљени спринт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чање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г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зитета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ању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цик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ни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р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ању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е 0.3г/кг соде бикарбоне 1-2х пре тренинга/такмич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и ефекти: ГИ смет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итрати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н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користе 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0" y="1828440"/>
            <a:ext cx="9144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стизање ергогеног ефекта користити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е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одговарајући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и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у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протокол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 суплемен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0" y="990720"/>
          <a:ext cx="9144000" cy="5715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Супле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Примена</a:t>
                      </a:r>
                      <a:r>
                        <a:rPr b="1" lang="en-U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дејство</a:t>
                      </a:r>
                      <a:r>
                        <a:rPr b="1" lang="en-U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Нежељени</a:t>
                      </a:r>
                      <a:r>
                        <a:rPr b="1" lang="en-U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ефек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Ниво</a:t>
                      </a:r>
                      <a:r>
                        <a:rPr b="1" lang="en-U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доказа</a:t>
                      </a:r>
                      <a:r>
                        <a:rPr b="1" lang="en-U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стат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цер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перхидратацион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зм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спанд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регула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T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о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љ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6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-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нит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кто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боличк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ич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болиза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ити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ољшањ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ењ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T-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а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а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јен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ен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онална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њују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оке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се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знаку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«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јететски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племент</a:t>
            </a:r>
            <a:r>
              <a:rPr b="1" lang="en-US" sz="3200" spc="-1" strike="noStrike" u="sng">
                <a:solidFill>
                  <a:srgbClr val="898989"/>
                </a:solidFill>
                <a:uFillTx/>
                <a:latin typeface="Calibri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анична изјава UK Спорт о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и дијететских суплемената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К спорт, Британска Олимпијска Асоцијација (БОА), Британска Параолимпијска Асоцијација (БПА), Национални Институт за Медицину Спорта (НСМИ) и Home Country Sports Councils (HCS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shed by RFUW Press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авет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портистима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K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п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еби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пл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стима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етује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тно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зриви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 употребе било ког дијететског суплемен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стоје никакве гаранције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ући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е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е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ргогена средства, биљне суплементе, не садрже забрањене супстанцe, с обзиром да ови прозводи нису подрвгнути стриктним стандардима производње и обележавања, као ододбрени леков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правилно вршити суплементацију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но балансирану диј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ње енергетске равноте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ни приступ у суплементац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стизање ергогеног ефекта користити само суплементе који имај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у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ом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зорити спортисту да велики број суплемената (готово 20%) је контаминиран неком од недозвољених супстанци. Примена ових суплемената носи ризик по здравље и могућу појаву позитивног допинг те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ОВИ СНАГЕ И БРЗИН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 до висок унос проте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овредни протеини, аминокиселине након тренин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ациј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ски нап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гогена 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карбонати/ цитр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ОВИ ИЗДРЖЉИВОС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и унос енергије-угљених хидр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ртски гелови, чоколадице, суплементи у течном облику-обр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а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ација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ски напи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 дефици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цијум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тивитамин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инер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гогена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фе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икарбонати/цитра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ци суплементације у спорту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знавање очекиваног дел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минација суплемената недозвољеним супстанц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учесност тренера или лекара или спортисте о деловању суплемен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дистрибуције- теретане, интер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Листа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контаминената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дс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абрањених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тране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МОК</a:t>
            </a: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Ефедр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Стрихн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Андростендион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андростендиол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дехидроепиандростеро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19-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норандростендион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19-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норандростендиол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позитиван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тест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метаболит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нандрол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Нандролон</a:t>
            </a:r>
            <a:r>
              <a:rPr b="1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(15 %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тестираних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г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садржавало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количини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довољној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да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покаже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позитивну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допинг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реакцију</a:t>
            </a:r>
            <a:r>
              <a:rPr b="0" lang="sr-Latn-C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Информисаност</a:t>
            </a:r>
            <a:r>
              <a:rPr b="1" lang="sr-Latn-C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о</a:t>
            </a:r>
            <a:r>
              <a:rPr b="1" lang="sr-Latn-C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листи</a:t>
            </a:r>
            <a:r>
              <a:rPr b="1" lang="sr-Latn-C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забрањених</a:t>
            </a:r>
            <a:r>
              <a:rPr b="1" lang="sr-Latn-C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средст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2" name="Object 2" descr=""/>
          <p:cNvPicPr/>
          <p:nvPr/>
        </p:nvPicPr>
        <p:blipFill>
          <a:blip r:embed="rId1"/>
          <a:stretch/>
        </p:blipFill>
        <p:spPr>
          <a:xfrm>
            <a:off x="0" y="1143000"/>
            <a:ext cx="4648320" cy="1981080"/>
          </a:xfrm>
          <a:prstGeom prst="rect">
            <a:avLst/>
          </a:prstGeom>
          <a:ln w="0">
            <a:noFill/>
          </a:ln>
        </p:spPr>
      </p:pic>
      <p:pic>
        <p:nvPicPr>
          <p:cNvPr id="703" name="Object 4" descr="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4" name="Object 5"/>
          <p:cNvGraphicFramePr/>
          <p:nvPr/>
        </p:nvGraphicFramePr>
        <p:xfrm>
          <a:off x="5072040" y="1066680"/>
          <a:ext cx="407196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2040" y="1066680"/>
                    <a:ext cx="40719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6" name="TextBox 6"/>
          <p:cNvSpPr/>
          <p:nvPr/>
        </p:nvSpPr>
        <p:spPr>
          <a:xfrm>
            <a:off x="1634040" y="762120"/>
            <a:ext cx="772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ра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TextBox 7"/>
          <p:cNvSpPr/>
          <p:nvPr/>
        </p:nvSpPr>
        <p:spPr>
          <a:xfrm>
            <a:off x="6206040" y="685800"/>
            <a:ext cx="7722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ра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60199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DA International Symposi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Supplements in 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2908440" cy="15922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"/>
          <p:cNvPicPr/>
          <p:nvPr/>
        </p:nvPicPr>
        <p:blipFill>
          <a:blip r:embed="rId3"/>
          <a:stretch/>
        </p:blipFill>
        <p:spPr>
          <a:xfrm>
            <a:off x="0" y="1447920"/>
            <a:ext cx="9144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кључ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државањ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нергетск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внотеж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италног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начај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тималн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ортск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форман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идратациј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љу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ржава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исо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нос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Х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ељ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кмич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користи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вак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гућност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орава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з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дговарајућ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хра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ма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ве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зерв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ортск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околадиц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исоким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држајем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Х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те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ати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преда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енирањ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ажи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моћ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реирањ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хран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ком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енинг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кмичењ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колико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реб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943600" cy="15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пинг у спор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orld Anti-Doping Co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200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HIBITED LI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ATION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NDAR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fficial text of the Prohibited List shall be mainta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Picture 4" descr="http://t3.gstatic.com/images?q=tbn:ANd9GcQ35R3BOUy1F2Q9wD3Krpp7NJHN2o1rQb802uwkC4PAWOZ58YKMDw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43434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0" descr=""/>
          <p:cNvPicPr/>
          <p:nvPr/>
        </p:nvPicPr>
        <p:blipFill>
          <a:blip r:embed="rId2"/>
          <a:stretch/>
        </p:blipFill>
        <p:spPr>
          <a:xfrm>
            <a:off x="6235560" y="5265720"/>
            <a:ext cx="290844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x alimentariu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зација намирница (GSF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е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е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тивне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6 Дијететски суплем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ске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не дијететске суплемент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/GL 55 – 20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е за нутритивне и здравствене изј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/GL 23-1997, Rev. 1-2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ив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тивно декларисање, адитиви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пинг у спор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0" y="9144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ве супстанце или методе које спортисту доводе у нефер предност у односу на ривала без обзира на тренинг или тален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зна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ош у старој Грчкој и Рим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Picture 4" descr="http://t3.gstatic.com/images?q=tbn:ANd9GcQ35R3BOUy1F2Q9wD3Krpp7NJHN2o1rQb802uwkC4PAWOZ58YKMDw"/>
          <p:cNvPicPr/>
          <p:nvPr/>
        </p:nvPicPr>
        <p:blipFill>
          <a:blip r:embed="rId1"/>
          <a:stretch/>
        </p:blipFill>
        <p:spPr>
          <a:xfrm>
            <a:off x="0" y="3733920"/>
            <a:ext cx="3886200" cy="312408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6"/>
          <p:cNvSpPr/>
          <p:nvPr/>
        </p:nvSpPr>
        <p:spPr>
          <a:xfrm>
            <a:off x="3886200" y="3774960"/>
            <a:ext cx="5257800" cy="276084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963. Прва дефинициј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пстанца која нарушава спортску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тику, доводи до побољшања спортске способности, али и до патофизиолошког и психичког нарушавања здрављ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јпознатија допинг сред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0" y="914400"/>
            <a:ext cx="5943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наболи</a:t>
            </a: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и  стероид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тестостерон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ианабол, нандрололон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већање мишић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наге и ма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метаболизам масти, 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нашањ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већана агресивност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КВО,  стерилит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7" name="Picture 11" descr="steroids"/>
          <p:cNvPicPr/>
          <p:nvPr/>
        </p:nvPicPr>
        <p:blipFill>
          <a:blip r:embed="rId1"/>
          <a:stretch/>
        </p:blipFill>
        <p:spPr>
          <a:xfrm>
            <a:off x="5934240" y="914400"/>
            <a:ext cx="3209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Хормони и сродне супстанце-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хормон раста, еритропоетин, инсулин и кортикотроп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Деловање: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повећање мишићне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масе, крвних ћелија, убрзање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   метаболизма ћел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Нежељени ефекти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акромегалија,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метаболичке промене,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неуролошке абнормал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Title 1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3" name="Picture 9" descr="HGH_baseball"/>
          <p:cNvPicPr/>
          <p:nvPr/>
        </p:nvPicPr>
        <p:blipFill>
          <a:blip r:embed="rId1"/>
          <a:stretch/>
        </p:blipFill>
        <p:spPr>
          <a:xfrm>
            <a:off x="0" y="2895480"/>
            <a:ext cx="4876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Title 1"/>
          <p:cNvSpPr/>
          <p:nvPr/>
        </p:nvSpPr>
        <p:spPr>
          <a:xfrm>
            <a:off x="0" y="0"/>
            <a:ext cx="914400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8" name="Picture 9" descr="Body_building"/>
          <p:cNvPicPr/>
          <p:nvPr/>
        </p:nvPicPr>
        <p:blipFill>
          <a:blip r:embed="rId1"/>
          <a:stretch/>
        </p:blipFill>
        <p:spPr>
          <a:xfrm>
            <a:off x="5486400" y="1676520"/>
            <a:ext cx="3657600" cy="5181480"/>
          </a:xfrm>
          <a:prstGeom prst="rect">
            <a:avLst/>
          </a:prstGeom>
          <a:ln w="0">
            <a:noFill/>
          </a:ln>
        </p:spPr>
      </p:pic>
      <p:sp>
        <p:nvSpPr>
          <p:cNvPr id="739" name="Content Placeholder 2"/>
          <p:cNvSpPr/>
          <p:nvPr/>
        </p:nvSpPr>
        <p:spPr>
          <a:xfrm>
            <a:off x="0" y="1752480"/>
            <a:ext cx="5486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Β-агонисти-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кленбутеро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већање мишићне масе, анаболик, липолит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убрзани раст срца, инфаркт, психоз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Comic Sans MS"/>
              </a:rPr>
              <a:t>смртни случајеви-боди билдин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AutoShape 11"/>
          <p:cNvSpPr/>
          <p:nvPr/>
        </p:nvSpPr>
        <p:spPr>
          <a:xfrm>
            <a:off x="4648320" y="4952880"/>
            <a:ext cx="1143000" cy="152640"/>
          </a:xfrm>
          <a:prstGeom prst="rightArrow">
            <a:avLst>
              <a:gd name="adj1" fmla="val 50000"/>
              <a:gd name="adj2" fmla="val 187205"/>
            </a:avLst>
          </a:prstGeom>
          <a:solidFill>
            <a:srgbClr val="c0504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нтиестрогени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кломиф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абол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јетра, вид, кож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иуретици и други маскирајући агенси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фуросемид/финастер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стизање телесне масе у борилачким спортовима/маскирање других допинг сред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умор, грчеви, повраћање, поремећај ви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Title 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0" y="12189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Стимуланси –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амфетамин, ефедрин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(на листи се налази 60 супстанци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⃰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mic Sans MS"/>
              </a:rPr>
              <a:t>Деловање-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, повећава концентрацију и пажњу, смањује бо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– убрзани срчани рад, хипертензија рабдомиолиза,  мождани,  срчани уда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Title 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9" descr="Before+After-2"/>
          <p:cNvPicPr/>
          <p:nvPr/>
        </p:nvPicPr>
        <p:blipFill>
          <a:blip r:embed="rId1"/>
          <a:stretch/>
        </p:blipFill>
        <p:spPr>
          <a:xfrm>
            <a:off x="2438280" y="4572000"/>
            <a:ext cx="3657600" cy="228600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10"/>
          <p:cNvSpPr/>
          <p:nvPr/>
        </p:nvSpPr>
        <p:spPr>
          <a:xfrm>
            <a:off x="1219320" y="54100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Text Box 11"/>
          <p:cNvSpPr/>
          <p:nvPr/>
        </p:nvSpPr>
        <p:spPr>
          <a:xfrm>
            <a:off x="914400" y="3733920"/>
            <a:ext cx="7315200" cy="11912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...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⃰и друге супстанце са слицном хемијском структуром и сличним биолошким ефекти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тода М1- побољшање транспорта кисео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Крвни допинг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Вештачко побољшање узимања, транспорта и испоруке кисеон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овање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вецање конц. O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VO2 ma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жељени ефек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мали, кожна реакција, алер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утолога трансфузија се не мозе детектовати!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тода М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генски допин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Title 1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f497d"/>
                </a:solidFill>
                <a:latin typeface="Comic Sans MS"/>
              </a:rPr>
              <a:t>Најпознатија допинг средст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itle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Content Placeholder 2"/>
          <p:cNvSpPr/>
          <p:nvPr/>
        </p:nvSpPr>
        <p:spPr>
          <a:xfrm>
            <a:off x="-152280" y="175248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Антидопинг</a:t>
            </a:r>
            <a:r>
              <a:rPr b="0" lang="vi-VN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агенција</a:t>
            </a:r>
            <a:r>
              <a:rPr b="0" lang="vi-VN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Републике</a:t>
            </a:r>
            <a:r>
              <a:rPr b="0" lang="vi-VN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Србије</a:t>
            </a:r>
            <a:r>
              <a:rPr b="0" lang="vi-VN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обављ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опинг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контрол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н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међународним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националним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такмичењим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као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зван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такмичењ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2006.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годин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оред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националних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ортских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социјациј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нтидопинг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генциј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Републик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рбиј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ровођењ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опинг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контрола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ротеклом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ериод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ангажовал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међународн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портск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федерациј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као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што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FIBA, UIAA, IAAF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друге</a:t>
            </a:r>
            <a:r>
              <a:rPr b="0" lang="vi-VN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1" name="Picture 10" descr="http://t2.gstatic.com/images?q=tbn:ANd9GcSVTQb9MgrliQAyHjR_lyeqb2p1HWH4Im4dAksN2O6EiG9d-XFz1A"/>
          <p:cNvPicPr/>
          <p:nvPr/>
        </p:nvPicPr>
        <p:blipFill>
          <a:blip r:embed="rId1"/>
          <a:stretch/>
        </p:blipFill>
        <p:spPr>
          <a:xfrm>
            <a:off x="2514600" y="0"/>
            <a:ext cx="4267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орисни линк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3809520" y="1447920"/>
            <a:ext cx="5334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ttp://www.adas.org.rs/dokumenti/podzakonski-akti/pravilnik-o-lzs-2010.pd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ttp://www.wada-ama.org/rtecontent/document/2009_Prohibited_List_ENG_Final_20_Sept_08.pd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ausport.gov.au/a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4" name="Picture 2" descr="http://t2.gstatic.com/images?q=tbn:ANd9GcSVTQb9MgrliQAyHjR_lyeqb2p1HWH4Im4dAksN2O6EiG9d-XFz1A"/>
          <p:cNvPicPr/>
          <p:nvPr/>
        </p:nvPicPr>
        <p:blipFill>
          <a:blip r:embed="rId1"/>
          <a:stretch/>
        </p:blipFill>
        <p:spPr>
          <a:xfrm>
            <a:off x="6172200" y="0"/>
            <a:ext cx="2666880" cy="144792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6" descr="no-doping"/>
          <p:cNvPicPr/>
          <p:nvPr/>
        </p:nvPicPr>
        <p:blipFill>
          <a:blip r:embed="rId2"/>
          <a:stretch/>
        </p:blipFill>
        <p:spPr>
          <a:xfrm>
            <a:off x="0" y="990720"/>
            <a:ext cx="3733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ај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ј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рди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творн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ник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ељн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м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м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ч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ј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х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љањ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иви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у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ске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је</a:t>
            </a:r>
            <a:r>
              <a:rPr b="0" i="1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2/46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2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н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ед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ћ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лемен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но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н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ћ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жишт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У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авати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ког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а</a:t>
            </a:r>
            <a:r>
              <a:rPr b="0" lang="h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8:58:44Z</dcterms:created>
  <dc:creator>brizita</dc:creator>
  <dc:description/>
  <dc:language>en-US</dc:language>
  <cp:lastModifiedBy>Vladimir Jakovljevic</cp:lastModifiedBy>
  <dcterms:modified xsi:type="dcterms:W3CDTF">2018-10-29T07:35:49Z</dcterms:modified>
  <cp:revision>107</cp:revision>
  <dc:subject/>
  <dc:title>SPORTSKA ISHRANA</dc:title>
</cp:coreProperties>
</file>